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55.png" ContentType="image/png"/>
  <Override PartName="/ppt/media/image20.jpeg" ContentType="image/jpe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0.png" ContentType="image/png"/>
  <Override PartName="/ppt/media/image56.jpeg" ContentType="image/jpeg"/>
  <Override PartName="/ppt/media/image33.png" ContentType="image/png"/>
  <Override PartName="/ppt/media/image3.png" ContentType="image/png"/>
  <Override PartName="/ppt/media/image54.png" ContentType="image/png"/>
  <Override PartName="/ppt/media/image14.jpeg" ContentType="image/jpeg"/>
  <Override PartName="/ppt/media/image15.jpeg" ContentType="image/jpeg"/>
  <Override PartName="/ppt/media/image64.png" ContentType="image/png"/>
  <Override PartName="/ppt/media/image16.jpeg" ContentType="image/jpeg"/>
  <Override PartName="/ppt/media/image60.png" ContentType="image/png"/>
  <Override PartName="/ppt/media/image28.jpeg" ContentType="image/jpeg"/>
  <Override PartName="/ppt/media/image62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67.png" ContentType="image/png"/>
  <Override PartName="/ppt/media/image30.png" ContentType="image/png"/>
  <Override PartName="/ppt/media/image26.jpeg" ContentType="image/jpeg"/>
  <Override PartName="/ppt/media/image42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66.png" ContentType="image/png"/>
  <Override PartName="/ppt/media/image65.jpeg" ContentType="image/jpeg"/>
  <Override PartName="/ppt/media/image8.jpeg" ContentType="image/jpeg"/>
  <Override PartName="/ppt/media/image38.png" ContentType="image/png"/>
  <Override PartName="/ppt/media/image63.png" ContentType="image/png"/>
  <Override PartName="/ppt/media/image52.png" ContentType="image/png"/>
  <Override PartName="/ppt/media/image58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4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34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13.jpeg" ContentType="image/jpeg"/>
  <Override PartName="/ppt/media/image44.png" ContentType="image/png"/>
  <Override PartName="/ppt/media/image9.png" ContentType="image/png"/>
  <Override PartName="/ppt/media/image39.png" ContentType="image/png"/>
  <Override PartName="/ppt/media/image12.jpeg" ContentType="image/jpeg"/>
  <Override PartName="/ppt/media/image2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jpeg" ContentType="image/jpeg"/>
  <Override PartName="/ppt/media/image31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04CA-2F71-4BE4-9F4E-0F0DCCD76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6978-24D1-454F-8806-BD62E298B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A8F2-EA10-493A-9204-E0D1D64EE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5618-F8B6-4496-B438-23CB808664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06E4-244C-497D-8D55-B5873288B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E1D4-BC66-4FC6-8BD3-F9898DD76B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D742-07B5-44C0-AA96-9E715B05E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289A-CC15-4C58-BD28-3B295515C9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E71C-B1ED-40C9-A9FF-FC7B7A6332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4040-426C-4361-A8C5-EC18C6CF2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96A0-C7DB-453E-A931-7F9F6E99BE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33D5-7E9B-425A-906E-817089FD4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2688-D194-44BD-B7C1-A01BDF0B3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4A6F-78F9-4C46-B0F4-4760ED080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D71-9E98-4FEF-890E-1A49C6D1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888-0340-4C20-BDE1-CCCCF305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000-690B-4989-9CA5-51205FBE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4DE-D9EE-4849-A566-C3ED09F3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89B0-F7C4-4184-ACE7-3E07BF90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942E-C125-45FA-88BD-A128B699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36C0-9D38-4FB7-A63C-C535DB8C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BEC1-AFFB-4F95-9E76-3BB1461F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B598-4FFD-41A1-B63F-414B9322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29EB-6BFC-4628-91D7-46C8D14B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AD93-4B09-45CA-8420-49B0332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A8D-11E3-47A7-903A-32586CD0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D274-647E-4842-A27F-E6BC43D6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457F-F6D8-421E-A735-2B0F6FB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BDDC-C19B-4510-8001-594A7DBD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1580-5F7C-458B-8CC6-8CF357FE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33A9-5873-40F9-963A-418D87C1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8D23-1240-49C3-9AD1-7D67C746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05C2-02CE-4363-AFF6-0D32497E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E20D-77B1-4FBF-9980-E6FAAF8D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D129-F6A4-4E3F-9BB0-75340DB8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45B8-1076-45F8-9DF7-0B045A6B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399-50EE-4870-964E-D3DD5E53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EF65-A2B8-47AE-9E3F-97724DBA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C066-6086-4630-AFE4-0CED84DB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C9ED-D217-47DF-B4AF-B277A3F7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E391D-FC2F-457F-B679-F5C3BD63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51BF-C684-402A-80A8-84AFD1A5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208B-7ED9-4F6A-8053-480D26B5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3357-318C-4CCD-821C-CC010626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572D6-EA4F-4B13-9A9E-9611F50A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AE88-FEE2-4DA5-BB27-FCC32E6E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CA4B-8EFA-4B12-9301-8A9DDF24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E4E-138D-4D12-BE8C-F8D07730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06D75-8C3A-42A8-98E9-B2802D7F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F3A9-5192-49F0-98AA-1BDF3CA7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D2B5C-F23D-4E7A-B5E6-540BE57D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09DFB-3512-43CE-9A98-36692E4E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969F-2644-4C5A-A984-4D721FD1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3FDAB-5508-449F-A3A0-4CA7B6EC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4C5B4-9DEA-46B0-94C9-3F84830F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59180-BC0A-401B-A10F-2CFCCB3B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49976-A385-46D7-A79A-EDCC4CD8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B6FDD-4EFB-4DAD-BFE0-A84B576A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9F6-33BC-46D3-A2F0-13E883AE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D034-8FF5-4301-911F-FF1BC89E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6A6D3-3B9A-4A62-9D8F-D5CFB9A9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F4AE2-1CC5-42B5-90E1-851EFAC8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016CE-2592-48E8-A68D-B9A49EFA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13F2E-138C-4AF4-ADF0-E4469A38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D0BB1-9CB8-4DF8-8D47-1A953E69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ED2B9-25CA-4269-893F-4F2BB3CD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38A35-ED7B-4E63-B274-CE6ADFDF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86E55-76F9-4567-9694-83CBDB97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17DFF-3374-4CA8-B930-12549AC6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9F7-FD70-450E-B385-9306D41D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65ECE-BD4B-4604-B973-C2260582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C38-4CBA-4E25-80F1-220D6926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326-48A8-4621-97DE-DAC038D8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4A2-77D9-4CFD-B220-921FC15E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CA61-5854-477E-8B44-4A48BAC044C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3930-57C9-4771-9849-AEC60F1A93B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6011-7AED-499F-BAAC-C64320839C9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D11C-00F7-47BC-A592-0958B243D5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68FB-4A60-4F34-9988-477E5DEFEC8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268200" y="585720"/>
            <a:ext cx="88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407880" y="304920"/>
            <a:ext cx="85773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-55440" y="701640"/>
            <a:ext cx="6207120" cy="5400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t3.gstatic.com/images?q=tbn:ANd9GcQHcpO1ok-yg15nODUeo_xjOktyA3JL8t0Jwrjo8S6Vn6hAZLw&amp;t=1&amp;usg=__GaARhJopiO0WDsSgRGLDmyCwYPI="/>
          <p:cNvPicPr/>
          <p:nvPr/>
        </p:nvPicPr>
        <p:blipFill>
          <a:blip r:embed="rId2"/>
          <a:stretch/>
        </p:blipFill>
        <p:spPr>
          <a:xfrm>
            <a:off x="5715000" y="1600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KEY FEATURES OF POPU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  </a:t>
            </a:r>
            <a:r>
              <a:rPr b="0" lang="en-US" sz="2800" spc="-1" strike="noStrike">
                <a:solidFill>
                  <a:srgbClr val="85dfd0"/>
                </a:solidFill>
                <a:latin typeface="Constantia"/>
              </a:rPr>
              <a:t>Population siz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the number of individuals in a popul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s an important effect on the ability of the population to survi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small population is more likely to become extinc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in the case of random events or natural disas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due to inbreeding where the population is more genetically alike.  Recessive traits are more likely to appe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with reduced variability it is harder to adapt to chan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Y FEATURES OF POPULATIONS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2.  </a:t>
            </a:r>
            <a:r>
              <a:rPr b="0" lang="en-US" sz="4800" spc="-1" strike="noStrike">
                <a:solidFill>
                  <a:srgbClr val="85dfd0"/>
                </a:solidFill>
                <a:latin typeface="Constantia"/>
              </a:rPr>
              <a:t>Population density</a:t>
            </a:r>
            <a:r>
              <a:rPr b="0" lang="en-US" sz="3600" spc="-1" strike="noStrike">
                <a:solidFill>
                  <a:srgbClr val="85dfd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number of individuals in a given area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they are too far apart they may only rarely encounter one another resulting in little reprodu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FEATURES OF POPULATIONS, con’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siz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imi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:</a:t>
            </a:r>
            <a:br>
              <a:rPr sz="36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nsity-dependent facto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edato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arasi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o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rowd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greater the population, the greater effect these factors ha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x. Black plague in the Middle Ages – more deaths in ci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609480" y="857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FEATURES OF POPULATIONS, con’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pulation size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imite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y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533520" y="2073240"/>
            <a:ext cx="83055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nsity-independent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Volcanic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hemical pest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Major habitat disruption (as in the New Orleans floo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ost are abiotic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Y FEATURES OF POPULATIONS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  Dispersio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way in which the individuals are arrang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5" descr="Fig. 6.3"/>
          <p:cNvPicPr/>
          <p:nvPr/>
        </p:nvPicPr>
        <p:blipFill>
          <a:blip r:embed="rId1"/>
          <a:stretch/>
        </p:blipFill>
        <p:spPr>
          <a:xfrm>
            <a:off x="0" y="3116160"/>
            <a:ext cx="9144000" cy="37418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6300720" y="64911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ost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5867280" cy="569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Factors that increase population siz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Natality is recruitment to a population through reproduction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mmigration from external populations e.g. Bird migr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0" name="Picture 2" descr="http://t1.gstatic.com/images?q=tbn:ANd9GcSm18KgJGh83xhzCql0XHE-uKPKduO92mNIfaviYBBm5GOAYOI&amp;t=1&amp;usg=__I9uNEXaeUzbcnRcXVvVt84Zk4RE="/>
          <p:cNvPicPr/>
          <p:nvPr/>
        </p:nvPicPr>
        <p:blipFill>
          <a:blip r:embed="rId1"/>
          <a:stretch/>
        </p:blipFill>
        <p:spPr>
          <a:xfrm>
            <a:off x="5075280" y="3809880"/>
            <a:ext cx="4068720" cy="3048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http://libertadhumana.files.wordpress.com/2009/10/migracion-aves.jpg"/>
          <p:cNvPicPr/>
          <p:nvPr/>
        </p:nvPicPr>
        <p:blipFill>
          <a:blip r:embed="rId2"/>
          <a:stretch/>
        </p:blipFill>
        <p:spPr>
          <a:xfrm>
            <a:off x="6400800" y="1371600"/>
            <a:ext cx="3683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240" y="704520"/>
            <a:ext cx="617220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Factor reducing population siz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ortality which is the death rate from any source e.g. predation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migration, where individuals leave the population for another habita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Picture 2" descr="http://t1.gstatic.com/images?q=tbn:ANd9GcQXdV0Ouset8m9kTiK0EdrO_k2ZibFvQ2xguMX5wds8o3Bmv3Y&amp;t=1&amp;usg=__RJbThkhXNSfCpWNax6NmqMv1Efc="/>
          <p:cNvPicPr/>
          <p:nvPr/>
        </p:nvPicPr>
        <p:blipFill>
          <a:blip r:embed="rId1"/>
          <a:stretch/>
        </p:blipFill>
        <p:spPr>
          <a:xfrm>
            <a:off x="5334120" y="1828800"/>
            <a:ext cx="3967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-49320" y="-536400"/>
            <a:ext cx="92664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5" name="Picture 2" descr="http://click4biology.info/c4b/5/images/5.3/Pop-size.gif"/>
          <p:cNvPicPr/>
          <p:nvPr/>
        </p:nvPicPr>
        <p:blipFill>
          <a:blip r:embed="rId1"/>
          <a:stretch/>
        </p:blipFill>
        <p:spPr>
          <a:xfrm>
            <a:off x="380880" y="457200"/>
            <a:ext cx="8653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le 1" descr=""/>
          <p:cNvPicPr/>
          <p:nvPr/>
        </p:nvPicPr>
        <p:blipFill>
          <a:blip r:embed="rId1"/>
          <a:stretch/>
        </p:blipFill>
        <p:spPr>
          <a:xfrm>
            <a:off x="30240" y="701640"/>
            <a:ext cx="95835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44244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9137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Title 1" descr=""/>
          <p:cNvPicPr/>
          <p:nvPr/>
        </p:nvPicPr>
        <p:blipFill>
          <a:blip r:embed="rId1"/>
          <a:stretch/>
        </p:blipFill>
        <p:spPr>
          <a:xfrm>
            <a:off x="115920" y="347760"/>
            <a:ext cx="86565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8836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9015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09440" y="665280"/>
            <a:ext cx="86630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73080" y="-237960"/>
            <a:ext cx="8894880" cy="1158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http://click4biology.info/c4b/5/images/5.3/logistics.gif"/>
          <p:cNvPicPr/>
          <p:nvPr/>
        </p:nvPicPr>
        <p:blipFill>
          <a:blip r:embed="rId2"/>
          <a:stretch/>
        </p:blipFill>
        <p:spPr>
          <a:xfrm>
            <a:off x="1371600" y="1371600"/>
            <a:ext cx="57913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73080" y="938160"/>
            <a:ext cx="88948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2" descr="http://t0.gstatic.com/images?q=tbn:ANd9GcTsdawAeYWJ-aW-qJzdU1PzeGr_mDcvZuYiOPEnIzNjssChWM0&amp;t=1&amp;usg=__4YAzCYkyZMkfzdPdGuyKjedEr0s="/>
          <p:cNvPicPr/>
          <p:nvPr/>
        </p:nvPicPr>
        <p:blipFill>
          <a:blip r:embed="rId1"/>
          <a:stretch/>
        </p:blipFill>
        <p:spPr>
          <a:xfrm>
            <a:off x="1676520" y="609480"/>
            <a:ext cx="632448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90835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89060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90583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09440" y="585720"/>
            <a:ext cx="86742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7789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08080" y="701640"/>
            <a:ext cx="8880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73080" y="573120"/>
            <a:ext cx="90471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73080" y="378000"/>
            <a:ext cx="8699400" cy="3724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http://t3.gstatic.com/images?q=tbn:ANd9GcSXtURuWao_Avivg4arBIhFqw2YUsNn5NVgZuwaLV6HLoj1dHU&amp;t=1&amp;usg=__A2nWwQ3aiFpy2ct0n_ZxYizAJuU="/>
          <p:cNvPicPr/>
          <p:nvPr/>
        </p:nvPicPr>
        <p:blipFill>
          <a:blip r:embed="rId2"/>
          <a:stretch/>
        </p:blipFill>
        <p:spPr>
          <a:xfrm>
            <a:off x="3962520" y="3703680"/>
            <a:ext cx="497196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15813" t="27087" r="58420" b="27087"/>
          <a:stretch/>
        </p:blipFill>
        <p:spPr>
          <a:xfrm>
            <a:off x="2819520" y="53352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"/>
          <p:cNvSpPr/>
          <p:nvPr/>
        </p:nvSpPr>
        <p:spPr>
          <a:xfrm>
            <a:off x="685800" y="98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ry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-6480" y="609480"/>
            <a:ext cx="91695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-96840" y="463680"/>
            <a:ext cx="8869320" cy="13888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485640" y="1905120"/>
            <a:ext cx="4648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sists of the non living. Includes soil, water, weath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http://t1.gstatic.com/images?q=tbn:ANd9GcTf1NVkMxh5_nuNUlR8FA1WSP4Jd4R_VnZ4F31NQRyI7zDIwLM&amp;t=1&amp;usg=__LdigpVtXJcLHzdyiQO3KW4tJudo="/>
          <p:cNvPicPr/>
          <p:nvPr/>
        </p:nvPicPr>
        <p:blipFill>
          <a:blip r:embed="rId2"/>
          <a:stretch/>
        </p:blipFill>
        <p:spPr>
          <a:xfrm>
            <a:off x="4684680" y="1981080"/>
            <a:ext cx="4078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90216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http://t2.gstatic.com/images?q=tbn:ANd9GcSuSHOE3Y6GJjC-6YTpQrMt5Co3et7A3t7Xb4g0jPn96R-b0ro&amp;t=1&amp;usg=__jx_AMrMSv4DAfk3EPvE5jYJGVOg="/>
          <p:cNvPicPr/>
          <p:nvPr/>
        </p:nvPicPr>
        <p:blipFill>
          <a:blip r:embed="rId1"/>
          <a:stretch/>
        </p:blipFill>
        <p:spPr>
          <a:xfrm>
            <a:off x="838080" y="3112920"/>
            <a:ext cx="7696440" cy="3576960"/>
          </a:xfrm>
          <a:prstGeom prst="rect">
            <a:avLst/>
          </a:prstGeom>
          <a:ln w="0">
            <a:noFill/>
          </a:ln>
        </p:spPr>
      </p:pic>
      <p:pic>
        <p:nvPicPr>
          <p:cNvPr id="321" name="Title 1" descr=""/>
          <p:cNvPicPr/>
          <p:nvPr/>
        </p:nvPicPr>
        <p:blipFill>
          <a:blip r:embed="rId2"/>
          <a:stretch/>
        </p:blipFill>
        <p:spPr>
          <a:xfrm>
            <a:off x="109440" y="665280"/>
            <a:ext cx="86630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9113760" cy="1554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http://t0.gstatic.com/images?q=tbn:ANd9GcTtik2aVBw64nbDWuQurEGNfCTUsK4drFvS61J_OX7H7LCeFco&amp;t=1&amp;usg=__mx8BLAfbta1ZJBEVLnJksoZCs_k="/>
          <p:cNvPicPr/>
          <p:nvPr/>
        </p:nvPicPr>
        <p:blipFill>
          <a:blip r:embed="rId2"/>
          <a:stretch/>
        </p:blipFill>
        <p:spPr>
          <a:xfrm>
            <a:off x="557280" y="2057400"/>
            <a:ext cx="8205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DICTING POPULATION GROW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odel: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hypothetical population that has key characteristics of the real population being studi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by demographers to predict how a population will grow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DICTING POPULATION GROWTH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early all populations will tend to grow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xponentially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s long as there are resources available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wo of the most basic factors that affect the rate of population growth are the birth rate, and the death rate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r(rate of growth)=birth rate – death rat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DICTING POPULATION GROWTH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onential growth curve</a:t>
            </a:r>
            <a:r>
              <a:rPr b="0" lang="en-US" sz="2400" spc="-1" strike="noStrike">
                <a:solidFill>
                  <a:srgbClr val="85dfd0"/>
                </a:solidFill>
                <a:latin typeface="Constanti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opulation growth plotted against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a population gets larger, it also grows at a faster rat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is the maximum population growth under ideal circumstan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s plenty of room for each member, unlimited resources (food, water) and no hindrances (predator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392720" cy="41767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Tahoma"/>
              </a:rPr>
              <a:t>FACT:  No population exhibits this type of growth for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EDICTING POPULATION GROWTH, con’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ogistic model</a:t>
            </a:r>
            <a:r>
              <a:rPr b="0" lang="en-US" sz="2800" spc="-1" strike="noStrike">
                <a:solidFill>
                  <a:srgbClr val="85dfd0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This model accounts for the declining resources available to populations as they grow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t assumes the birth and death rates are not consta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 the population grows, births decline and death rises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ntually birth=death so the population stops grow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arrying capacity (K):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number of organisms of one species that an environment can support indefinitel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54252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REDICTING POPULATION GROWTH, con’t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wo modes of population growth.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6" name="Picture 8" descr="expgrowth"/>
          <p:cNvPicPr/>
          <p:nvPr/>
        </p:nvPicPr>
        <p:blipFill>
          <a:blip r:embed="rId1"/>
          <a:stretch/>
        </p:blipFill>
        <p:spPr>
          <a:xfrm>
            <a:off x="611280" y="1052640"/>
            <a:ext cx="7775640" cy="47005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9"/>
          <p:cNvSpPr/>
          <p:nvPr/>
        </p:nvSpPr>
        <p:spPr>
          <a:xfrm>
            <a:off x="358920" y="5734080"/>
            <a:ext cx="42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6fc6"/>
                </a:solidFill>
                <a:latin typeface="Tahoma"/>
              </a:rPr>
              <a:t>The Exponential curve (also known as a J-curv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ccurs when there is no limit to population siz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4500720" y="5734080"/>
            <a:ext cx="4643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6fc6"/>
                </a:solidFill>
                <a:latin typeface="Arial"/>
              </a:rPr>
              <a:t>The Logistic curve (also known as an S-cur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ws the effect of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miting f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 this case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rying capa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environm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PULATION GROWTH STRATEG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re are 2 ways a population can prosper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epends on the rate of growth (r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fluenced by the carrying capacity (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PULATION GROWTH STRATEGIES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-strategists: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racterized by exponential growth, which results in temporarily large populations, followed by sudden crashes in population size.  Ex. Insects, bacteria, some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unpredictable and rapidly changing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oduce quickly when conditions are favor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offspring: small, mature rapidly, no parental c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rate of grow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-158760" y="317520"/>
            <a:ext cx="8931240" cy="1535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762120" y="2209680"/>
            <a:ext cx="4876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l the living. Including all forms of lif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http://t3.gstatic.com/images?q=tbn:ANd9GcSXzVmHfkGa7xrgWgTccuxn2gme6VL5hajjHuyGwV0Z7ilLOdw&amp;t=1&amp;usg=__EeKKe1nmO_P5zF8iR0dPFB9xTvk="/>
          <p:cNvPicPr/>
          <p:nvPr/>
        </p:nvPicPr>
        <p:blipFill>
          <a:blip r:embed="rId2"/>
          <a:stretch/>
        </p:blipFill>
        <p:spPr>
          <a:xfrm>
            <a:off x="5638680" y="4003560"/>
            <a:ext cx="3238560" cy="2416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http://t1.gstatic.com/images?q=tbn:ANd9GcQRm5SCqXUKnyAgiknAtrGCrKQXgypecdq7sqrv8_H_n3t9G0Q&amp;t=1&amp;usg=__9ts5K45lvkIhDCXcXJwqPaOQPsY="/>
          <p:cNvPicPr/>
          <p:nvPr/>
        </p:nvPicPr>
        <p:blipFill>
          <a:blip r:embed="rId3"/>
          <a:stretch/>
        </p:blipFill>
        <p:spPr>
          <a:xfrm>
            <a:off x="3276720" y="228600"/>
            <a:ext cx="2860560" cy="1886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http://t3.gstatic.com/images?q=tbn:ANd9GcS09r7m8-Nyj8hmRBLWyzfu8DccR30u7xt_2R9ZJOdRep7j8Iw&amp;t=1&amp;usg=__Ka1gVdEgRgMI-T0zsoIpPzCaz1Y="/>
          <p:cNvPicPr/>
          <p:nvPr/>
        </p:nvPicPr>
        <p:blipFill>
          <a:blip r:embed="rId4"/>
          <a:stretch/>
        </p:blipFill>
        <p:spPr>
          <a:xfrm>
            <a:off x="5925960" y="685800"/>
            <a:ext cx="2779920" cy="2743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http://t2.gstatic.com/images?q=tbn:ANd9GcTsnNVJ_m_c0NB3uN6y7caNytTDU4xLO41l4I9KtuczOZ-y6YQ&amp;t=1&amp;usg=__k2jqBrWvuWAD7-RiGrf16oYoXXY="/>
          <p:cNvPicPr/>
          <p:nvPr/>
        </p:nvPicPr>
        <p:blipFill>
          <a:blip r:embed="rId5"/>
          <a:stretch/>
        </p:blipFill>
        <p:spPr>
          <a:xfrm>
            <a:off x="3505320" y="4724280"/>
            <a:ext cx="2400120" cy="1905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" descr="http://t3.gstatic.com/images?q=tbn:ANd9GcTovG2B9nGf5b5uuhkvkAeY4P2TQVex0uYJij3nLhiLKLsmCNI&amp;t=1&amp;usg=__vvmlUXurpGiaV-eVeMIEZfcBxgQ="/>
          <p:cNvPicPr/>
          <p:nvPr/>
        </p:nvPicPr>
        <p:blipFill>
          <a:blip r:embed="rId6"/>
          <a:stretch/>
        </p:blipFill>
        <p:spPr>
          <a:xfrm>
            <a:off x="685800" y="4800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PULATION GROWTH STRATEGIES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K-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trategists: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haracterized by a high degree of specialization.  Ex. Trees, whales, tigers, etc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e in stable and predictable environ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n compete effective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produce late in lif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ew offspring: large, mature slowly, often much parental c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 carrying capac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592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OPULATION GROWTH STRATEGIES, con’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74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Human Populations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K-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ategist characteristic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 recent times however, man has learned to expand the carrying capacity of his environment by increasing food supply, combating pests and curing diseas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an Earth support this increase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amage to the planet will eventually reduce the carrying capacity for humanity and slow the growth of the human popul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9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98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98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09440" y="-6480"/>
            <a:ext cx="866304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73080" y="573120"/>
            <a:ext cx="90154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0" name="Picture 2" descr="http://click4biology.info/c4b/5/images/5.3/resistance.gif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36360" y="701640"/>
            <a:ext cx="8925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9320" y="615960"/>
            <a:ext cx="8723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36360" y="701640"/>
            <a:ext cx="88329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t0.gstatic.com/images?q=tbn:ANd9GcQgKi1vLPwJqQXkdCDup58YMzkTjrfg_GWd26qcpfR5tghxqak&amp;t=1&amp;usg=__n9iiKX3ZQlz2ptBxz37F6jIZ7Es="/>
          <p:cNvPicPr/>
          <p:nvPr/>
        </p:nvPicPr>
        <p:blipFill>
          <a:blip r:embed="rId1"/>
          <a:stretch/>
        </p:blipFill>
        <p:spPr>
          <a:xfrm>
            <a:off x="5638680" y="4005360"/>
            <a:ext cx="3200400" cy="2528640"/>
          </a:xfrm>
          <a:prstGeom prst="rect">
            <a:avLst/>
          </a:prstGeom>
          <a:ln w="0">
            <a:noFill/>
          </a:ln>
        </p:spPr>
      </p:pic>
      <p:pic>
        <p:nvPicPr>
          <p:cNvPr id="355" name="Title 1" descr=""/>
          <p:cNvPicPr/>
          <p:nvPr/>
        </p:nvPicPr>
        <p:blipFill>
          <a:blip r:embed="rId2"/>
          <a:stretch/>
        </p:blipFill>
        <p:spPr>
          <a:xfrm>
            <a:off x="109440" y="433440"/>
            <a:ext cx="912024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146160" y="146160"/>
            <a:ext cx="900432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-158760" y="298440"/>
            <a:ext cx="865044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85680" y="701640"/>
            <a:ext cx="8929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2" descr="http://t1.gstatic.com/images?q=tbn:ANd9GcSfloN71AbuPdUFUHeuhdCOvY7lRJkxO76op-m0_YtJY4XFqUU&amp;t=1&amp;usg=__pGfLwMsaKibTnXk3yRiD0kkFYQE=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5025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://t1.gstatic.com/images?q=tbn:ANd9GcSuMwMYzzL1AaOulgnSfXZFQ7fQaz_yd6Sbr7DBIlMJPcCKkDc&amp;t=1&amp;usg=__qqXzVSl7ZySWkSBJGV74EaUk7Z4="/>
          <p:cNvPicPr/>
          <p:nvPr/>
        </p:nvPicPr>
        <p:blipFill>
          <a:blip r:embed="rId2"/>
          <a:stretch/>
        </p:blipFill>
        <p:spPr>
          <a:xfrm>
            <a:off x="609480" y="228600"/>
            <a:ext cx="723924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394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8:06:16Z</dcterms:created>
  <dc:creator>user</dc:creator>
  <dc:description/>
  <dc:language>en-US</dc:language>
  <cp:lastModifiedBy>user</cp:lastModifiedBy>
  <dcterms:modified xsi:type="dcterms:W3CDTF">2010-08-03T04:57:22Z</dcterms:modified>
  <cp:revision>25</cp:revision>
  <dc:subject/>
  <dc:title>Slide 1</dc:title>
</cp:coreProperties>
</file>